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7DF-00F1-431B-B427-791AE151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AA5-4BC1-409D-BC0E-8CBEE52A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49E-310E-4DD3-A51B-A277E70F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9D1-C57B-44B3-AA63-0967702A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C9E-08AE-4B4A-B722-A55B535A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1D5-3226-4B25-AEF6-368622C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2AF-4F5F-47C3-A255-39D08B6D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125-091B-445A-9DBF-E2C4919E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261-DAA5-4128-A237-C70DC39C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E42-C38B-42BB-8F4A-9EF70F6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995-2952-4907-8E27-C71FB70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C8C-73BB-45AE-BD93-B3A2805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8E2-4745-4D80-A53F-25882CA86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rt 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29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55Z</dcterms:modified>
  <cp:revision>110</cp:revision>
  <dc:subject/>
  <dc:title>The Art in the State of the Art</dc:title>
</cp:coreProperties>
</file>